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7.gif" ContentType="image/gif"/>
  <Override PartName="/ppt/media/image14.jpeg" ContentType="image/jpeg"/>
  <Override PartName="/ppt/media/image8.png" ContentType="image/png"/>
  <Override PartName="/ppt/media/image13.png" ContentType="image/png"/>
  <Override PartName="/ppt/media/image6.gif" ContentType="image/gi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A038-8178-4C24-8F94-ABBCD346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F6F1-396E-4CA4-8CB9-B422F7EE4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29EC-315A-4645-8C31-5680EABC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7F1F-1F27-4019-820A-1EE17C6B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6539-0384-41F8-A128-C556721B8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90BD-2368-48CC-AF57-2B43A676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522A-8F9B-4E12-B941-62C2BE12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3D50-4408-4F3E-B5BC-2D461CF1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20E7-AF66-4455-84B5-BF18BE48E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B0AC-2868-4278-9F05-06CBDA04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33D-E0A3-41E2-AE09-0C0E12C0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188-5D93-48D6-ABD3-444179A1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C1F-6E0B-4A54-89C6-CA7726BC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32A-A9A2-477B-B5DA-A21D425D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8C2-2B22-47E1-A68F-DEC9C8C5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005-E4F7-44FA-9AC7-83811FC5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0E1-86A0-4A37-A8C8-15322E93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3B2-B389-41CD-B4DD-3F1EB4BF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185-2F7A-4AD2-A455-14CA7355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752-04EA-47A6-8E72-1878FFC0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EDE-9A09-435C-9E4A-D1C8DCD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4DC-F540-45E7-B7C4-5C2A00DB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9571-6CA3-4B09-8CF6-507C6BF3D7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uman brai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340000" y="3789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cks us whenever it c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ipmc.cnrs.fr/~duprat/neurophysiology/brain.htm"/>
          <p:cNvPicPr/>
          <p:nvPr/>
        </p:nvPicPr>
        <p:blipFill>
          <a:blip r:embed="rId1"/>
          <a:stretch/>
        </p:blipFill>
        <p:spPr>
          <a:xfrm>
            <a:off x="571680" y="2500200"/>
            <a:ext cx="37782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bbinghaus Illusion"/>
          <p:cNvPicPr/>
          <p:nvPr/>
        </p:nvPicPr>
        <p:blipFill>
          <a:blip r:embed="rId1"/>
          <a:stretch/>
        </p:blipFill>
        <p:spPr>
          <a:xfrm>
            <a:off x="1219320" y="1981080"/>
            <a:ext cx="6324480" cy="3794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63920" y="144792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circle is big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8600" y="593424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you sure they aren't both the same size?  This relative size illusion is called the Ebbinghaus illusion.  It was discovered by Hermann Ebbinghaus, a German psychologist, in the early 1900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ara Nader - Roger N. Shepard"/>
          <p:cNvPicPr/>
          <p:nvPr/>
        </p:nvPicPr>
        <p:blipFill>
          <a:blip r:embed="rId1"/>
          <a:stretch/>
        </p:blipFill>
        <p:spPr>
          <a:xfrm>
            <a:off x="2666880" y="1828800"/>
            <a:ext cx="3857760" cy="4459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463480" y="129528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you see bel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468160" y="632448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ady or a musician? See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iar by Paul Agule"/>
          <p:cNvPicPr/>
          <p:nvPr/>
        </p:nvPicPr>
        <p:blipFill>
          <a:blip r:embed="rId1"/>
          <a:stretch/>
        </p:blipFill>
        <p:spPr>
          <a:xfrm>
            <a:off x="3048120" y="1295280"/>
            <a:ext cx="2790720" cy="4854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362320" y="6396120"/>
            <a:ext cx="40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iar by Paul Agule"/>
          <p:cNvPicPr/>
          <p:nvPr/>
        </p:nvPicPr>
        <p:blipFill>
          <a:blip r:embed="rId1"/>
          <a:stretch/>
        </p:blipFill>
        <p:spPr>
          <a:xfrm rot="17859000">
            <a:off x="4956120" y="1486080"/>
            <a:ext cx="2790720" cy="4854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362320" y="6396120"/>
            <a:ext cx="40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ace or the word "liar"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Liar by Paul Agule"/>
          <p:cNvPicPr/>
          <p:nvPr/>
        </p:nvPicPr>
        <p:blipFill>
          <a:blip r:embed="rId2"/>
          <a:stretch/>
        </p:blipFill>
        <p:spPr>
          <a:xfrm>
            <a:off x="914400" y="1600200"/>
            <a:ext cx="257184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st things last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low the instruction below.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) St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4 little dots on the middle of the picture for 30 seco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) then look at a wall near you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) a bright spot will appear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) twinkle a few times and you‘ll see a figure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) What do you see? Or even WHO do you se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jmuller\AppData\Local\Microsoft\Windows\Temporary Internet Files\Content.IE5\RZTOUHA0\Obama-Optical-Illusion[1].jpg"/>
          <p:cNvPicPr/>
          <p:nvPr/>
        </p:nvPicPr>
        <p:blipFill>
          <a:blip r:embed="rId1"/>
          <a:stretch/>
        </p:blipFill>
        <p:spPr>
          <a:xfrm>
            <a:off x="1692360" y="476280"/>
            <a:ext cx="57211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phenomenal power of the human mind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 ...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 cdnuolt blveiee taht I cluod aulaclty uesdnatnrd waht I was rdanie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phaonmneal pweor of the hmuan mnid! Aoccdrnig to a rscheearch at Cmabrigde Uinervtisy, it deosn't mttaer inwaht oredr the ltteers in a wrod are, the olny iprmoatnt tihng is taht the frist and lsat ltteer be in the rghit pclae. The rset can be a taotl mses and you can sitll raed it wouthit a porbelm. Tihs is bcuseae the huamn mnid deos not raed ervey lteter by istlef, but the wrod as a wlohe. Amzanig huh? Yaeh, and I awlyas thought slpeling was ipmorantt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 something‘s rotating – go home, you need a break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TT-0-04637FCB270FA54C9FCAC124CC1BDD7A-image001"/>
          <p:cNvPicPr/>
          <p:nvPr/>
        </p:nvPicPr>
        <p:blipFill>
          <a:blip r:embed="rId1"/>
          <a:stretch/>
        </p:blipFill>
        <p:spPr>
          <a:xfrm>
            <a:off x="826920" y="1197000"/>
            <a:ext cx="75218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Illusions and Visual Phenome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t to confuse your eyes and brain a bit?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es? Then you might want to have a look at the following pics ..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TT-2-385F5E0B0BF64147AF84097BF419BCA6-image003"/>
          <p:cNvPicPr/>
          <p:nvPr/>
        </p:nvPicPr>
        <p:blipFill>
          <a:blip r:embed="rId1"/>
          <a:stretch/>
        </p:blipFill>
        <p:spPr>
          <a:xfrm>
            <a:off x="250920" y="2131920"/>
            <a:ext cx="8642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TT-3-91D51DEB62ABD44699E9A9ED8405CFB8-image004"/>
          <p:cNvPicPr/>
          <p:nvPr/>
        </p:nvPicPr>
        <p:blipFill>
          <a:blip r:embed="rId1"/>
          <a:stretch/>
        </p:blipFill>
        <p:spPr>
          <a:xfrm>
            <a:off x="539640" y="1008000"/>
            <a:ext cx="80647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esn‘t move!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TT-4-91906CDEAF6D8E47AE2540FB53482436-image005"/>
          <p:cNvPicPr/>
          <p:nvPr/>
        </p:nvPicPr>
        <p:blipFill>
          <a:blip r:embed="rId1"/>
          <a:stretch/>
        </p:blipFill>
        <p:spPr>
          <a:xfrm>
            <a:off x="900000" y="1379520"/>
            <a:ext cx="7272360" cy="5248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Ja, tun sie!"/>
          <p:cNvPicPr/>
          <p:nvPr/>
        </p:nvPicPr>
        <p:blipFill>
          <a:blip r:embed="rId2"/>
          <a:stretch/>
        </p:blipFill>
        <p:spPr>
          <a:xfrm>
            <a:off x="3203640" y="836640"/>
            <a:ext cx="2736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e on the cross in the middl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after a while you will notice that this moving purple dot will turn green!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TT-8-35B9939EAE184147AFE60167A7064EAC-image009"/>
          <p:cNvPicPr/>
          <p:nvPr/>
        </p:nvPicPr>
        <p:blipFill>
          <a:blip r:embed="rId1"/>
          <a:stretch/>
        </p:blipFill>
        <p:spPr>
          <a:xfrm>
            <a:off x="144360" y="130644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5796000" y="4946040"/>
            <a:ext cx="30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Look at the cross a bit longer and you‘ll notice that all dots except the green one will disapp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Optical Illusion"/>
          <p:cNvPicPr/>
          <p:nvPr/>
        </p:nvPicPr>
        <p:blipFill>
          <a:blip r:embed="rId1"/>
          <a:stretch/>
        </p:blipFill>
        <p:spPr>
          <a:xfrm>
            <a:off x="1600200" y="1447920"/>
            <a:ext cx="6054840" cy="4495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762120" y="6248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to count the number of black dots on the image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62120" y="6248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lines straight or are they cur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Optical Illusion"/>
          <p:cNvPicPr/>
          <p:nvPr/>
        </p:nvPicPr>
        <p:blipFill>
          <a:blip r:embed="rId1"/>
          <a:stretch/>
        </p:blipFill>
        <p:spPr>
          <a:xfrm>
            <a:off x="838080" y="1371600"/>
            <a:ext cx="7288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09:20Z</dcterms:created>
  <dc:creator>Roland</dc:creator>
  <dc:description/>
  <dc:language>en-US</dc:language>
  <cp:lastModifiedBy>John Hampton</cp:lastModifiedBy>
  <dcterms:modified xsi:type="dcterms:W3CDTF">2012-02-15T19:46:08Z</dcterms:modified>
  <cp:revision>27</cp:revision>
  <dc:subject/>
  <dc:title>was das Hirn alles kann …</dc:title>
</cp:coreProperties>
</file>